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Jingle%20Bell%20Rock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078A-B4C9-458F-977F-69EAD79AA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3619-7C1A-4244-B532-612032D1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64B-DD9E-4F15-8A63-59218EC7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B21-280C-4330-8629-B59A346C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97A3-F360-4E20-9256-2C1FB7DE7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87FD-A884-4AC3-A375-EE91EF1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E19B-47CD-4DCE-8E74-2F23A8E3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3CE9-5BB7-4D8D-81B3-671B20AF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0D57-905B-407C-8D69-631BB68D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6E8D-22D3-4FB9-A4E9-1E05427B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6B99-E576-4C1B-9FF1-3128A9E8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7525-0CC9-412C-86AD-0B35CCD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FE0DB-658B-4966-ABAA-C98C6304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C49D-FD41-4415-8DAC-0B220BE7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21B-CA31-4333-949F-FDB2147B1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BE81-829F-47AD-80D6-02B179FF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473F-049A-45D1-82AD-ED42213F6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0386-877F-434F-A7A5-239233E6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34CC-19B2-4559-AEAC-59CD461A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6F0-09BD-41DF-8BE6-2D7B3044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67DC-58C6-411B-97F0-DF628350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AC8B-42B3-441F-89EF-D6278164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54FF-AEA0-47C4-9C07-E2CEBC42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0CE1-033C-4E9A-8683-E342A1A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445F-E05B-4260-B937-4CFEB6AB2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97F4-EEA1-4ADF-984C-73C36BAEAC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Jingle%20Bell%20Rock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654280" y="900000"/>
            <a:ext cx="4254480" cy="8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Jingle Bell Ro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4869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Ángela, Andrea R, Javier, Miri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fade/>
    <p:sndAc>
      <p:stSnd>
        <p:snd r:embed="rId2" name="Jingle%20Bell%20Ro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9640" y="476280"/>
            <a:ext cx="345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, jingle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Jingle be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nd jingle bells 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596360" y="692280"/>
            <a:ext cx="1333440" cy="13334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5305320"/>
            <a:ext cx="4572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Snowing and b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Up bushels of f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ow the jingle hop has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, jingle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s chim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ingle bell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0720" y="2565360"/>
            <a:ext cx="338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Dancing and pr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 jingle bell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 the frosty 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338472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What a bright tim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t's the right tim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16000" y="764640"/>
            <a:ext cx="3899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rock the night away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Jingle bell, tim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 a swell tim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o go glidin' in a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ne horse sleigh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40320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iddy-up, jingle hors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ck up your fee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ingle around the clock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8000" y="333360"/>
            <a:ext cx="39956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ix and mingle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 a jinglin' beat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hat's the jingle bell roc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strips dir="r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9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37:17Z</dcterms:created>
  <dc:creator>pc10</dc:creator>
  <dc:description/>
  <dc:language>en-US</dc:language>
  <cp:lastModifiedBy>pc10</cp:lastModifiedBy>
  <dcterms:modified xsi:type="dcterms:W3CDTF">2011-12-21T10:17:27Z</dcterms:modified>
  <cp:revision>4</cp:revision>
  <dc:subject/>
  <dc:title>Diapositiva 1</dc:title>
</cp:coreProperties>
</file>